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2288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C043-E886-407B-A431-803972723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E186-664C-4A2E-886E-C90014FB4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1FB2-714A-4890-A3D2-D8EDA1126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3EAB-3B87-4882-8BFF-E2E01F4DB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A475-813E-41BA-9BB1-A80CE8834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4D2D-4987-46CA-97BA-921154093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96CD-1F0F-4F06-B9DD-F088AAA05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C1E0-CF32-48F5-BB03-370AD0CAA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0AEE-BC61-46C9-BFCE-052D53874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A8C4-B30F-42B1-BB47-A097F0BFE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FCD6-A3F3-4991-B21E-E1B6BD60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FE57-B702-44C3-A21B-7FC0D25AE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A2725-A564-4C58-9B05-CD2B672AAE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160880"/>
            <a:ext cx="685800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LDO </a:t>
            </a:r>
            <a:r>
              <a:rPr b="0" lang="en-US" sz="60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200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 Black"/>
              </a:rPr>
              <a:t>Projeto de Le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-243000" y="863136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Arial Black"/>
              </a:rPr>
              <a:t>MAIO DE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6600" y="9201240"/>
            <a:ext cx="59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ff"/>
                </a:solidFill>
                <a:latin typeface="Arial"/>
              </a:rPr>
              <a:t>Brasília – Patrimônio Cultural da Humanida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581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581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65360" y="0"/>
            <a:ext cx="166392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2T14:57:14Z</dcterms:created>
  <dc:creator>441104</dc:creator>
  <dc:description/>
  <dc:language>en-US</dc:language>
  <cp:lastModifiedBy>humberto.junior</cp:lastModifiedBy>
  <dcterms:modified xsi:type="dcterms:W3CDTF">2007-05-11T19:53:31Z</dcterms:modified>
  <cp:revision>19</cp:revision>
  <dc:subject/>
  <dc:title>Slide 1</dc:title>
</cp:coreProperties>
</file>